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69B6-0BD5-4C6D-BAEF-7DC68805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252F-DA0A-423C-9BD4-46BCE85A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96D3-C590-4205-8849-7E213D9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DF4D-5A7B-4442-9E0A-B241DA36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82A-97BB-4012-B16D-7C4594D4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790-AA4F-4B0F-BFA0-BFD3F8E6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5440-DF21-4307-B62E-44157C8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5F97-330F-42B0-A7CA-DBE9558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94EB-57D9-426B-A09E-21D537F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9AB8-6A01-4136-8688-E82E464B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6BA0-5EC7-4D23-B074-B8BC4CE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A674-B959-496E-97C0-D9D7E419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AF11-0302-48BA-B59C-459E805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4D0D-4B49-4099-B87D-5A7132D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044-C3EE-4D3D-8959-E37D2D92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49B-79C9-4B1A-A942-689F7C32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D802-ECB9-42CB-BAD9-06B1805A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6820-C174-4F9E-B7BD-4ADBC534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FE29-E9E8-46C8-9E76-4ADCB1EA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8358-9405-4D20-BD0E-BB133482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CE15-18B2-4259-AD0B-1C05AAD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F33E-0C48-4F9F-A1A3-463A28A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BED9-3445-4FC4-BFCB-1DC2F3D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D111-7A18-4E69-8EE7-298E028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C6F8-CA06-4D96-AEDE-18F8AD398D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693-20A3-4CC6-8DA8-46D57121B1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1692360" y="1484280"/>
            <a:ext cx="71262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«ВИЧ-инфекция - чума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XXI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века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5148360" y="4941720"/>
            <a:ext cx="38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готовил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дагог-психолог Смирнова Т.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3492360" y="630864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урманск, 2018 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7" descr="yes"/>
          <p:cNvPicPr/>
          <p:nvPr/>
        </p:nvPicPr>
        <p:blipFill>
          <a:blip r:embed="rId1"/>
          <a:stretch/>
        </p:blipFill>
        <p:spPr>
          <a:xfrm>
            <a:off x="179280" y="2708280"/>
            <a:ext cx="4680000" cy="3457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0"/>
          <p:cNvSpPr/>
          <p:nvPr/>
        </p:nvSpPr>
        <p:spPr>
          <a:xfrm>
            <a:off x="108000" y="18900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сударственное автономное профессиональное образовательное учреждение Мурманской област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Мурманский индустриальный колледж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Диагностика и ле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новной метод диагностики ВИЧ-инфекции -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Garamond"/>
              </a:rPr>
              <a:t>определение в крови специфических антител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Лабораторная диагностика осуществляется в несколько этапов. На первом этапе проводится ИФА. Он позволяет выявить наличие антител в крови. Если они обнаруживаются, далее организуется методика иммунного блоттинга. Существует и другой способ -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Garamond"/>
              </a:rPr>
              <a:t>проведение ПЦР (полимеразная цепная реакция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Эта реакция позволяет выявить геном вируса. Диагностика должна проводиться как можно раньше. Сделать анализ на ВИЧ-инфекцию необходимо в следующих ситуациях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ранениях в условиях стационара колющими инструментами или предметам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сексуального насил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лучае обнаружения у своего партнера ВИЧ-инфек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любого незащищенного полового акта с незнакомым партнеро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контакта с инфицированной кровь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пользования инъекционными наркотик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400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УГОЛОВНАЯ ОТВЕТ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0920" y="620640"/>
            <a:ext cx="86058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</a:rPr>
              <a:t>Статья 122 Уголовного кодекса. Заражение ВИЧ-инфекци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Заведомое поставление другого лица в опасность заражения ВИЧ-инфекцией 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казывается ограничением свободы на срок до 3 лет, либо принудительными работами на срок до 1 года, либо арестом на срок до 6 месяцев, либо лишением свободы на срок до 1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Заражение другого лица ВИЧ-инфекцией лицом, знавшим о наличии у него этой болезни, - наказывается лишением свободы на срок до 5 л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 Деяние, предусмотренное ч. 2, совершенное в отношении двух или более лиц либо в отношении несовершеннолетнего, - наказывается лишением свободы на срок до 8 лет с лишением права занимать определенные должности или заниматься определенной деятельностью на срок до 10 лет либо без таково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Заражение другого лица ВИЧ-инфекцией вследствие ненадлежащего исполнения лицом своих профессиональных обязанностей - наказывается принудительными работами на срок до 5 лет с лишением права занимать определенные должности или заниматься определенной деятельностью на срок до 3 лет или без такового либо лишением свободы на срок до 5 лет с лишением права занимать определенные должности или заниматься определенной деятельностью на срок до 3 л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95280" y="-402840"/>
            <a:ext cx="842472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Профилактика ВИЧ-инфекции и СПИ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ключение беспорядочных половых связ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ключение употребления и введения наркотик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ключение нанесения татуировок, использования общих бритвенных принадлежностей, маникюрных и других предметов личной гигиен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ование средств индивидуальной защи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временное обращение в медицинские учрежд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доровый образ жизни - основа профилактики ВИЧ/СПИ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19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Рефлекс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821480" cy="5889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5364000" y="1647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дин человек на этой дискотеке заражен ВИЧ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ак вы думаете, кто из них заражён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ОТВЕТ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Этого нельзя узнать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о есть вирус ВИЧ скрывается в людях, которые выглядят здоровыми, как и вы. Вы можете танцевать с этим парнем или девушкой. Он очень красивый, симпатичный, у него спортивная фигура, он выглядит совершенно здоровым, но на самом деле, он может быть заражён вирусом ВИЧ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 не узнаете об этом по его виду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666280" cy="628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Прямоугольник 4"/>
          <p:cNvSpPr/>
          <p:nvPr/>
        </p:nvSpPr>
        <p:spPr>
          <a:xfrm>
            <a:off x="357120" y="42876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Мужчина на лодке говорит другому: «Не бойся, это только несколько ветвей». Но он не видит опасный ствол под водой. Что случится, если они поедут дальше? Эта картинка  хорошо иллюстрирует проблему СПИДа, объясните ее значение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ОТВЕТ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етви над водой - это официально зарегистрированные ВИЧ-инфицированные люди, их более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430 тыс. в России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 Ствол под водой - это люди, у которых тоже вирус ВИЧ, но мы этого не знаем. И они тоже зачастую об этом не знают. Их в 3-5 раз больше, чем тех, о которых мы знаем.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Скрытая опасность гораздо серьезнее, чем та, которую мы види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3059280" y="765000"/>
            <a:ext cx="576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  <a:ea typeface="Times New Roman"/>
              </a:rPr>
              <a:t>«СПИДом можно заразиться при…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Что ошибочного в этом выражении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2" descr="http://s.qguys.com/original/2/7/6/4701970_2767929304.jpg"/>
          <p:cNvPicPr/>
          <p:nvPr/>
        </p:nvPicPr>
        <p:blipFill>
          <a:blip r:embed="rId1"/>
          <a:stretch/>
        </p:blipFill>
        <p:spPr>
          <a:xfrm>
            <a:off x="108000" y="128520"/>
            <a:ext cx="2732040" cy="326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old.uralkukla.ru/files/83fba2d97f34bdc1371ee60d69f4e29e_XL.jpg"/>
          <p:cNvPicPr/>
          <p:nvPr/>
        </p:nvPicPr>
        <p:blipFill>
          <a:blip r:embed="rId2"/>
          <a:stretch/>
        </p:blipFill>
        <p:spPr>
          <a:xfrm>
            <a:off x="108000" y="3500280"/>
            <a:ext cx="27320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ОТВЕТ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84428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Человек заражается только вирусом ВИЧ, болезнь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ПИД является только последней терминальной стадией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 Если мы знаем способы распространения ВИЧ, мы можем хорошо защитить самих себя от зара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468360" y="333360"/>
            <a:ext cx="7893000" cy="60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овериться на ВИЧ-инфекцию в городе Мурманске можно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поликлинике по месту житель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ГОАУЗ «Мурманский областной Центр специализированных видов медицинской помощ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рес: г. Мурманск, ул. Лобова, д. 10 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ел: 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(8152) 22-50-08, (8152) 22-56-67, (8152) 22-51-18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.почта: 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kvd@com.mels.ru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24000" y="333360"/>
            <a:ext cx="8424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Путь к красоте, истине, добру всегда находится в самом человеке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ако в настоящее время человечество подошло к опасной черте, сегодня на первое место встали такие проблемы, как спасение всего живого на Земле, самой жизни и подрастающего поколения, что имеет особо важное значение и требует принятия решительных и действенных мер. Так, несколько десятков лет назад мы считали, что «буржуазная» зараза – наркотики,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Garamond"/>
              </a:rPr>
              <a:t> СПИД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– нас не коснется, а сейчас эта угроза приняла </a:t>
            </a:r>
            <a:r>
              <a:rPr b="1" lang="ru-RU" sz="1800" spc="-1" strike="noStrike">
                <a:solidFill>
                  <a:srgbClr val="ff0000"/>
                </a:solidFill>
                <a:latin typeface="Garamond"/>
              </a:rPr>
              <a:t>глобальные масштабы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дошла до нашего государств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чти половина россиян – 45% – не видят разницы между такими понятиями, как ВИЧ и СПИД.  К такому выводу пришел Всероссийский центр изучения общественного мнения (ВЦИОМ) по итогам опросов россиян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2" descr="ÐÑÐ¾Ð±Ð»ÐµÐ¼Ð° ÐÐÐ§ Ð¸Ð½ÑÐµÐºÑÐ¸Ð¸"/>
          <p:cNvPicPr/>
          <p:nvPr/>
        </p:nvPicPr>
        <p:blipFill>
          <a:blip r:embed="rId1"/>
          <a:stretch/>
        </p:blipFill>
        <p:spPr>
          <a:xfrm>
            <a:off x="1908000" y="3780000"/>
            <a:ext cx="4761000" cy="28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47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8" descr="konc-v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826920" y="620640"/>
            <a:ext cx="78487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1 декабря – всемирный день борьбы со СПИД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Красная лента (перевернутое «V») - символ сострадания, поддержки и надежды на будущее без СПИД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95280" y="549360"/>
            <a:ext cx="835344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Использованные 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лый В. П. ВИЧ. СПИД. Новейший медицинский справочник. - М.: Эксмо, 2009. - 672 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употницкий М.В. Эволюционная патология. К вопросу о месте ВИЧ-инфекции и ВИЧ/СПИД-пандемии среди других инфекционных, эпидемических и пандемических процессов. - Москва: Вузовская книга, 2009. - 400 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головный кодекс Российской Федерации от 13.06.1996 № 63-ФЗ (ред. от 25.11.2013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ект «Общее дело»: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</a:rPr>
              <a:t>http://проектобщеедело.рф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ttp://xn--i1abbnckbmcl9fb.xn--p1ai/%D1%81%D1%82%D0%B0%D1%82%D1%8C%D0%B8/623580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3276720" y="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крытие вируса произошло почти одновременно в двух лабораториях. Первооткрывателями вируса стали 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Люк Монтань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 (Франция) и 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Роберт Галло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 (США). В 1983 году (всего лишь через два года после выявления первых случаев болезни) из лимфатического узла больного СПИДом был выделен вирус - 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Garamond"/>
              </a:rPr>
              <a:t>возбудитель СПИД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Это рекордно короткий срок для проведения такого рода исследований. Ранее на это уходили десятилет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Luc_20Montagnier_20laboratoire"/>
          <p:cNvPicPr/>
          <p:nvPr/>
        </p:nvPicPr>
        <p:blipFill>
          <a:blip r:embed="rId1"/>
          <a:stretch/>
        </p:blipFill>
        <p:spPr>
          <a:xfrm>
            <a:off x="179280" y="189000"/>
            <a:ext cx="301644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gallo_CORBIS_300x"/>
          <p:cNvPicPr/>
          <p:nvPr/>
        </p:nvPicPr>
        <p:blipFill>
          <a:blip r:embed="rId2"/>
          <a:stretch/>
        </p:blipFill>
        <p:spPr>
          <a:xfrm>
            <a:off x="4932360" y="3284640"/>
            <a:ext cx="3960720" cy="30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201960" y="43657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юк Монтан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461640" y="6308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берт Галл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24000" y="5084640"/>
            <a:ext cx="4248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июля 1986 года для обозначения возбудителя повсеместно принято название «вирус иммунодефицита человека» или «ВИЧ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s://krovetvorenie.ru/wp-content/uploads/2015/09/Shema-virusa-VICh.pn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890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ри стадии от ВИЧ к СПИД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723960"/>
            <a:ext cx="849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Garamond"/>
              </a:rPr>
              <a:t>Начальная стадия: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нкубационный период - это время между тем, когда человек заражается ВИЧ, и когда начинают развиваться ранние признаки (тошнота, рвота, увеличение лимфы узлов в шее, подмышках, паху, боль в мышцах и суставах, сыпь, потеря веса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Garamond"/>
              </a:rPr>
              <a:t>Установочная стадия: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сле того, как человек заражается ВИЧ, может пройти много лет без проявления других признаков болезни. Когда признаки возвращаются, они могут быть неопределенными и трудными для описания (диарея, трудности с концентрацией внимания, сухой кашель, усталость, потеря аппетита, раздутые лимфы узлы в шее, подмышках, и паху, нечувствительность, и слабость в конечностях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Garamond"/>
              </a:rPr>
              <a:t>Последняя стадия: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болезнь прогрессирует к СПИДу. Некоторые из признаков СПИДа включают усталость, потерю веса, диарею, лихорадку, ночные потоотделения. В этот период очень просто подцепить любые инфекции или болезни (пневмонию или рак) когда у человека ослабленная иммунная систе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      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ВИЧ протекает без какого-либо лечения, у большинства людей в течение 12 - 13 лет после этого развивается СПИД.     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95280" y="404640"/>
            <a:ext cx="8353440" cy="70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Три пути передачи ВИЧ-инфекци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КРОВЬ – КРОВЬ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(при использовании нестерильных медицинских инструментов, переливании зараженной крови, у наркоманов при пользовании шприце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ПОЛОВОЙ КОНТАКТ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(при незащищенном половом контакт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МАТЬ – РЕБЕНОК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во время беременности, во время родов или при кормлении грудью через грудное молок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6" descr="index"/>
          <p:cNvPicPr/>
          <p:nvPr/>
        </p:nvPicPr>
        <p:blipFill>
          <a:blip r:embed="rId1"/>
          <a:stretch/>
        </p:blipFill>
        <p:spPr>
          <a:xfrm>
            <a:off x="7812000" y="115920"/>
            <a:ext cx="107640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324000" y="11736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пидемиология ВИЧ в России характеризуется тенденцией к росту заболеваемости. Если до недавнего времени заболевание в большей степени затрагивало определенную группу населения (потребителей инъекционных наркотиков, безработных), то на сегодняшний день часто заражаются социально адаптированные граждане. Чаще всего заражаются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женщин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возрастной категории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от 25 до 34 лет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мужчины от 30 до 34 лет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Основной путь заражения - инъекционн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ÐÐµÑÐµÐ»Ð¸Ð²Ð°Ð½Ð¸Ðµ ÐºÑÐ¾Ð²Ð¸ - Ð¿ÑÐ¸ÑÐ¸Ð½Ð° ÐÐÐ§"/>
          <p:cNvPicPr/>
          <p:nvPr/>
        </p:nvPicPr>
        <p:blipFill>
          <a:blip r:embed="rId1"/>
          <a:stretch/>
        </p:blipFill>
        <p:spPr>
          <a:xfrm>
            <a:off x="2843280" y="3903840"/>
            <a:ext cx="394956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щее число зарегистрированных ВИЧ-больных среди граждан России по данным за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арт 2017 года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составило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 103 150 человек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из них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869 998 живёт с ВИЧ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о данным формы мониторинга Роспотребнадзора «Сведения о мероприятиях по профилактике ВИЧ-инфекции, гепатитов В и С, выявлению и лечению больных ВИЧ»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0b15abfd3fbcc431edebd3b68ce66a82"/>
          <p:cNvPicPr/>
          <p:nvPr/>
        </p:nvPicPr>
        <p:blipFill>
          <a:blip r:embed="rId1"/>
          <a:stretch/>
        </p:blipFill>
        <p:spPr>
          <a:xfrm>
            <a:off x="0" y="4941720"/>
            <a:ext cx="2843280" cy="191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neeze1"/>
          <p:cNvPicPr/>
          <p:nvPr/>
        </p:nvPicPr>
        <p:blipFill>
          <a:blip r:embed="rId2"/>
          <a:stretch/>
        </p:blipFill>
        <p:spPr>
          <a:xfrm>
            <a:off x="0" y="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4245480" y="115920"/>
            <a:ext cx="36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Garamond"/>
              </a:rPr>
              <a:t>ВИЧ НЕ ПЕРЕДАЕТСЯ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627280" y="6922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душно-капельным путем, т.е. через воздух (в транспорте, при разговоре, чихании, кашле в вашу сторону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79280" y="2205000"/>
            <a:ext cx="52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товым путем, т.е. проживая с больным человеком в одном помещении (безопасно пользоваться общей посудой, полотенцем, туалетом, бассейном. Невозможно заразиться через рукопожатия или объятия, при поцелуях, через общую сигарету, губную помаду, через ручки дверей и телефонные трубк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4" descr="gv45tgf451b190f75c6503"/>
          <p:cNvPicPr/>
          <p:nvPr/>
        </p:nvPicPr>
        <p:blipFill>
          <a:blip r:embed="rId3"/>
          <a:stretch/>
        </p:blipFill>
        <p:spPr>
          <a:xfrm>
            <a:off x="5148360" y="1700280"/>
            <a:ext cx="3995640" cy="2519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2916360" y="501336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рез воду, пищу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рез животных, через укусы кровососущих насекомых (клопов, блох, комаров), через пияв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15:09Z</dcterms:created>
  <dc:creator>Компьютер</dc:creator>
  <dc:description/>
  <dc:language>en-US</dc:language>
  <cp:lastModifiedBy>Андрей Смирнов</cp:lastModifiedBy>
  <dcterms:modified xsi:type="dcterms:W3CDTF">2018-09-09T09:56:49Z</dcterms:modified>
  <cp:revision>390</cp:revision>
  <dc:subject/>
  <dc:title>Слайд 1</dc:title>
</cp:coreProperties>
</file>